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9B3-F34C-4680-A2AB-4797D206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F05-E047-4436-B99F-22424AEB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554-D273-4CB8-8F5F-A3962D5B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59A-E3A7-405F-8A90-063D6C3D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BB68-22B4-44F8-B145-31206765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7568-871E-4833-A777-01115131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17EF-BB1C-41D1-9D61-4F54621C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FEA9-FFEB-4D50-93C9-123E138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0078-EB55-4387-AC4A-3DE07562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38EF-1F2A-4220-938D-CB93CC76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A412-DA8E-4882-98D1-5270DD85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31D-1149-44BF-A9E4-71E6202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CD47-2533-411E-9AF1-0BA63AC2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64FB-CF78-4AC4-9BBF-5B00A478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43F4-5426-43B7-96E4-6241BD8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E7C8-EA6B-4645-B37C-D4204187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A6EA-D77E-45E3-902A-5F9BBB2E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A7BD-F95A-4295-8F18-3CD6E3C4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54F6-8026-48CF-A50C-797F8B4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AAF5-0067-45C2-9840-DE31D087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8992-BCE1-4FCE-8545-521889F8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8B06-9E07-4CC5-9B6D-581E9FE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060-15C2-4BE4-B527-E552A257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1A7E-147D-4B20-B6F8-CEBBEC7D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E87B-BD89-4127-8E11-D60007DE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D057-4B0C-4BEA-94F9-6EA099B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EA27-3B9F-4EAD-B234-92E2E82A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C55F-85E9-469A-BAA8-38B37CE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1EE5-9BEA-46E4-BA44-521233AC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D0A5-D5A0-4118-AADA-DEDDF745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98B12-6CFC-43B9-9626-BB9A91F1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619D3-DDE6-4C26-A270-2117F0BE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6981C-2A44-4414-82CA-06D26721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F60-7830-4B5E-AD5A-7885C102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BFA3B-533B-4BFA-853E-FB68C947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CB42A-4273-4D11-9A9C-57124FD1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A5831-F3BF-4C7B-A4CB-82A08F29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131BA-2AAB-41F2-B8BF-15BA0C2E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C609B-852F-4D00-898B-57F44FC6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24FF1-CE12-4B5B-992A-A576710F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3E4E9-F051-4EB8-8DDD-63847AB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514CE-3B9C-4785-98EE-105B60DF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25B4F-2D63-4905-A4C1-7DFF8977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D8FF-6F75-4554-A3F6-7DAE8409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71F-7758-4F5F-AA4A-DAC002FD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FDA6E-DF70-4053-8AE5-BB59F3A7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7F85-BB4B-4403-A4D1-E160B6E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27F2-73FB-408C-AA73-8B7FE38A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3820-E215-45E8-B3BA-F3DED4F1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E807-2A80-4FD3-856F-70EC504D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85DF9-1E07-41C5-9BD9-286EDD9A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0765D-0CD0-4611-A42E-D8C823C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CB173-A84E-4D66-844B-B93D6E2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1072-1EC7-4FD7-A161-C888CCD0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BD821-D562-46E5-B942-05FE0642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469-066A-4CD1-BFD6-136FDBF8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213D4-B813-4E63-9173-5924F4B3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DA4E-B2FB-4D42-B26C-5061EB00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8C05-C8F8-469C-934C-133D1C0C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8C63-7C99-4938-AA41-A4DB233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0DA97-7CBC-4767-BC8D-D447AFB1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48F3D-BBF5-4B4F-8C01-B890B694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F66C-BF7D-4F1A-98D9-81BBDCFA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706B-88A6-4E9B-8E52-4528ECF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CA411-3392-47B4-94BA-F1A5E1E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F50A-5E51-4B43-B4F1-9D78A251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0F9-3921-42C6-8441-D67AD03A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70DF5-49F6-410F-BD74-BB9F292E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C1D2-EB63-44C4-96D0-B109E321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7D9CA-2E29-4FE0-B8B5-AF1D0355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C3C-5EFA-461D-83DF-ECE5723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F04-F65A-48C8-87D5-A95E9995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59FE-486D-4F57-8ABC-EDFFD6BAD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E600-0298-41FA-8BDD-C12591DA9D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6C43-F89E-48C2-9981-06953C940E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4892-A5F5-4999-9AF7-F5557C69F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89D6-F71C-4D4B-AB29-5672A02CE2F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1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4921-BFDA-40B4-93A3-E87A09764C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Музыкальная психотерап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сследовательская рабо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раксиной Марии Алексее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иды музыкальной псих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67" name="Organization Chart 7"/>
          <p:cNvGrpSpPr/>
          <p:nvPr/>
        </p:nvGrpSpPr>
        <p:grpSpPr>
          <a:xfrm>
            <a:off x="0" y="1197000"/>
            <a:ext cx="9143280" cy="4883400"/>
            <a:chOff x="0" y="1197000"/>
            <a:chExt cx="9143280" cy="4883400"/>
          </a:xfrm>
        </p:grpSpPr>
        <p:cxnSp>
          <p:nvCxnSpPr>
            <p:cNvPr id="268" name="_s1028"/>
            <p:cNvCxnSpPr>
              <a:stCxn id="269" idx="0"/>
              <a:endCxn id="270" idx="2"/>
            </p:cNvCxnSpPr>
            <p:nvPr/>
          </p:nvCxnSpPr>
          <p:spPr>
            <a:xfrm flipV="1" rot="16200000">
              <a:off x="5682600" y="2037960"/>
              <a:ext cx="977400" cy="320076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1" name="_s1029"/>
            <p:cNvCxnSpPr>
              <a:stCxn id="272" idx="0"/>
              <a:endCxn id="270" idx="2"/>
            </p:cNvCxnSpPr>
            <p:nvPr/>
          </p:nvCxnSpPr>
          <p:spPr>
            <a:xfrm flipV="1">
              <a:off x="4571280" y="3149640"/>
              <a:ext cx="3960" cy="9774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3" name="_s1030"/>
            <p:cNvCxnSpPr>
              <a:stCxn id="274" idx="0"/>
              <a:endCxn id="270" idx="2"/>
            </p:cNvCxnSpPr>
            <p:nvPr/>
          </p:nvCxnSpPr>
          <p:spPr>
            <a:xfrm flipH="1" flipV="1" rot="5400000">
              <a:off x="2482560" y="2037960"/>
              <a:ext cx="977400" cy="320076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70" name="_s1031"/>
            <p:cNvSpPr/>
            <p:nvPr/>
          </p:nvSpPr>
          <p:spPr>
            <a:xfrm>
              <a:off x="3200040" y="1197000"/>
              <a:ext cx="2742840" cy="195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Tahoma"/>
                </a:rPr>
                <a:t>Музыкальная 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Tahoma"/>
                </a:rPr>
                <a:t>психология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_s1032"/>
            <p:cNvSpPr/>
            <p:nvPr/>
          </p:nvSpPr>
          <p:spPr>
            <a:xfrm>
              <a:off x="0" y="4127040"/>
              <a:ext cx="2742840" cy="195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сихология музыкально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сполнительской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еятельност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сихология музыкально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творческ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_s1033"/>
            <p:cNvSpPr/>
            <p:nvPr/>
          </p:nvSpPr>
          <p:spPr>
            <a:xfrm>
              <a:off x="3200040" y="4127040"/>
              <a:ext cx="2742840" cy="195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Психология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музыкального обуче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 воспит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Психология муз.-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пропаганды и муз.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критической деят.-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_s1034"/>
            <p:cNvSpPr/>
            <p:nvPr/>
          </p:nvSpPr>
          <p:spPr>
            <a:xfrm>
              <a:off x="6400440" y="4127040"/>
              <a:ext cx="2742840" cy="195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Tahoma"/>
                </a:rPr>
                <a:t>Музыкальная 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Tahoma"/>
                </a:rPr>
                <a:t>психотерапия</a:t>
              </a:r>
              <a:endParaRPr b="0" lang="en-US" sz="3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92612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-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уша), часть сложных слов, указывающая на отношение к псих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ап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(от гр.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apei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ечение) (внутренние болезни), область медицины, изучающая внутренние болезни, одна из древнейших и основных врачебных специальнос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терапия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сихическое воздействие на больного с лечащей целью. Выделяют рациональную психотерапию, или разъяснение, внушение, самовнушение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Возможности использования музы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стетизация и гармонизация больнично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действие развитию коммуникативных а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витие творческого воображения и фантаз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лаксация психологического тону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ширение и развитие эмоциональной сф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витие чувства коллектив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витие эстетических потре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гательны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ическ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тактный и контактный масс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льно-медитативны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тренин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же в античных временах музыка являлась чудесным исцел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узыка может влиять на эмоциональное и душевное состояни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помощи искусства можно воздействовать на внутренний мир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узыка может служить хорошим средством профилактики, помогая людям жить, работать и быть счастли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. в некоторых случаях музыка является единственным методом излеч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7:01:05Z</dcterms:created>
  <dc:creator>Александр</dc:creator>
  <dc:description/>
  <dc:language>en-US</dc:language>
  <cp:lastModifiedBy>Admin</cp:lastModifiedBy>
  <dcterms:modified xsi:type="dcterms:W3CDTF">2010-10-25T17:46:07Z</dcterms:modified>
  <cp:revision>5</cp:revision>
  <dc:subject/>
  <dc:title>Музыкальная психотерапия</dc:title>
</cp:coreProperties>
</file>