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8A4E-7283-4C2B-8024-60AB76B8A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94;&#1072;&#1088;&#1090;,_&#1051;&#1077;&#1086;&#1087;&#1086;&#1083;&#1100;&#1076;" TargetMode="External"/><Relationship Id="rId2" Type="http://schemas.openxmlformats.org/officeDocument/2006/relationships/hyperlink" Target="http://ru.wikipedia.org/wiki/14_&#1086;&#1082;&#1090;&#1103;&#1073;&#1088;&#1103;" TargetMode="External"/><Relationship Id="rId3" Type="http://schemas.openxmlformats.org/officeDocument/2006/relationships/hyperlink" Target="http://ru.wikipedia.org/wiki/1791" TargetMode="External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94;&#1072;&#1088;&#1090;,_&#1042;&#1086;&#1083;&#1100;&#1092;&#1075;&#1072;&#1085;&#1075;_&#1040;&#1084;&#1072;&#1076;&#1077;&#1081;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2" Type="http://schemas.openxmlformats.org/officeDocument/2006/relationships/hyperlink" Target="http://ru.wikipedia.org/wiki/&#1056;&#1080;&#1084;&#1089;&#1082;&#1080;&#1081;-&#1050;&#1086;&#1088;&#1089;&#1072;&#1082;&#1086;&#1074;,_&#1053;&#1080;&#1082;&#1086;&#1083;&#1072;&#1081;_&#1040;&#1085;&#1076;&#1088;&#1077;&#1077;&#1074;&#1080;&#1095;" TargetMode="External"/><Relationship Id="rId3" Type="http://schemas.openxmlformats.org/officeDocument/2006/relationships/hyperlink" Target="http://ru.wikipedia.org/wiki/&#1064;&#1077;&#1092;&#1092;&#1077;&#1088;,_&#1055;&#1080;&#1090;&#1077;&#1088;" TargetMode="External"/><Relationship Id="rId4" Type="http://schemas.openxmlformats.org/officeDocument/2006/relationships/hyperlink" Target="http://ru.wikipedia.org/wiki/&#1040;&#1084;&#1072;&#1076;&#1077;&#1081;_(&#1092;&#1080;&#1083;&#1100;&#1084;)" TargetMode="External"/><Relationship Id="rId5" Type="http://schemas.openxmlformats.org/officeDocument/2006/relationships/hyperlink" Target="http://ru.wikipedia.org/wiki/&#1060;&#1086;&#1088;&#1084;&#1072;&#1085;,_&#1052;&#1080;&#1083;&#1086;&#1096;" TargetMode="External"/><Relationship Id="rId6" Type="http://schemas.openxmlformats.org/officeDocument/2006/relationships/slide" Target="../slides/slide3.xml"/><Relationship Id="rId7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DC55-22FC-4483-8F2C-E50EA8D90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ские классики – это гении «века просвещения», сыгравшие огромную роль в истории и развитии музыкальной культуры 18-19 веков. «Венскими классиками» принято считать композиторов Гайдна, Моцарта, Бетховена. Они жили в одно время, в одном городе, встречались… Что служило поводом для этих встреч, как они относились друг к другу, насколько гениям доступны простые человеческие проявления дружбы, любви, ненави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, в этом же городе жил человек, музыкант, оставшийся в памяти потомков олицетворением зла, зависти…Убийца… Антонио Сальери…Встречались ли они, понимали ли друг друг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размышления стали предметом нашего небольшого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B606-EF85-461B-953B-A4D512E9C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ообще дом в котором жил Метастазио, оказался удивительной точкой пересечения самых разных судеб. Под опекой Метастазио находились дети его друга Никколо Мартинеса, служащего папского нунциата в Вене. А среди этих детей необычайными дарованиями отличалась Марианна Мартинес (1744-1812), которая уже в детстве прекрасно пела, играла на клавесине, сочиняла музыку и проявляла способности к языкам. Такому алмазу была нужна шлифовка, и Метастазио пригласил в учителя чудо-девочке знаменитого композитора и вокального педагога Никколо Порпору. А тот, в свою очередь, задействовал в процессе обучения своего подмастерье, молодого, почти нищего, но подающего большие надежды Йозефа Гайдна - тот сперва аккомпанировал пению Марианны, а потом стал давать ей уроки игры на клавире, благо жил в том же доме на самой верхотуре, в мансарде, продуваемой ветрами и сквозняками. Впоследствии играть с Марианной в четыре руки не брезговал сам Моцарт, а за композиторские достижения девушку приняли в члены Болонской академии (для женщины того времени - редкое отличие). А ещё в жёлтом доме рядом с Метастазио жила старая вдовая княгиня Мария Октавия Эстергази, которая время от времени приглашала Гайдна поиграть в её салоне на клавесине. . К Марианне и ее брату, придворному библиотекарю, запросто захаживал Моцарт. А в соседнем доме жил Глюк, с которым также общались и Моцарт, и Сальери. То есть фактически это был один круг, в котором все друг друга зна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39A-EAB9-4BEA-8A53-C7FC06CE7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оцарта и Сальери были неровными, и известно несколько резких высказываний о Сальери, принадлежащих самому Моцарту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го отц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днако высказывания эти, по большей части, относятся к началу 1780-х гг. и не отличаются от обычных отзывов темпераментного Моцарта о музыкантах-конкурентах. В то же время в последнем письме Моцарта жене (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4 октя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79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г.) Моцарт уделяет большое внимание посещению Сальери представления моцартовской «Волшебной флейты», описывая восторженную реакцию Сальери как нечто весьма важное для себя. Известно, что во второй половине 1780-х гг. Сальери дирижировал несколькими произведениями Моцарта, а после своего назначения капельмейстером придворной оперы в 1788 г. прежде всего вернул в репертуар оперу Моцарта «Свадьба Фигаро». Существовало даже музыкальное сочинение, написанное Моцартом и Сальери совместно: кантата для голоса и фортепьяно «На выздоровление Офелии». В целом нет оснований полагать, что между Моцартом и Сальери существовала какая-либо особая враж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2EE3-F88A-4E25-8649-23B65A304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ли ли они друзьями? По Пушкину - да. Помните, в пушкинской трагедии Моцарт поднимает тост: «За твое здоровье, друг. За истинный союз!» Такая трактовка дает абсолютный контраст между злодейством Сальери и доверчивостью Моцарта. В жизни тесной дружбы между этими композиторами не существовало, - как раз из-за подозрительности Моцарта, который относился к Сальери весьма неприязненно, обвинял его во всевозможных кознях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        Правда, со временем их отношения смягчились. В письме к жене Констанце от 14 октября 1791 года, то есть за полтора месяца до смерти, Моцарт пишет, что, по его приглашению, Сальери посетил спектакль «Волшебная флейта», очень внимательно прослушал оперу - «и не было ни одного номера, от увертюры до последнего хора, который бы не вызвал его «браво». Это последние слова Моцарта о Сальер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FB3-68DB-4125-80D5-65ACF2543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одили по Вене и другие слухи. После смерти Моцарта кто-то припомнил, будто бы, на первом представлении «Дон Жуана», когда весь театр упивался гармонией, вдруг раздался свист. Все обернулись, и под негодующими взглядами знаменитый Сальери покинул театр, - в бешенстве, снедаемый завистью. Вот это уже явная ложь. Известно, что Сальери вообще не присутствовал на премьере «Дон Жуана», которая состоялась в Праге. Да и встречена она была довольно холодно - окажись в театре завистник, он мог бы только торжествова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 между тем, никто и никогда не замечал в нем зависти. Да и могла ли она возникнуть у него к Моцарту? У преуспевающего Сальери была такая слава, о которой Моцарт и не мечтал. Грудь Сальери украшали и золотая императорская медаль, и французский орден. Ему не в тягость было помогать собратьям по профессии. Кстати, именно Сальери помог Моцарту возобновить в 1779 году постановку «Свадьбы Фигаро», получить новые заказы. Были ли у него хоть какие-нибудь основания завидовать человеку, который жил в жестокой нужде, не имея ничего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орядочности же мастера свидетельствует длинный ряд поступков на протяжении почти всей его активной жизни. Он всегда выказывал преданность всем своим учителям и постоянно участвовал в богоугодных и бескорыстных начинаниях. На траурной церемонии памяти своего учителя Глюка он дирижировал исполнением его последнего сочинения ,кроме этого взял на воспитание его осиротевших детей. В программу великопостного концерта в пользу музыкантских вдов и сирот 1791 года Сальери включил симфонию Моцарта (№ 40), о которой почему-то принято думать, будто при жизни Моцарта она не исполнялась. Кроме того Констанца доверила Сальери быть учителем своего младшего сына, тоже Вольфганга Амаде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Являясь композитором с европейским именем, он не гнушался выступать на вторых и третьих ролях, если считал, что дело того заслуживало. Так, на премьере в 1814 году “Битвы при Виттории” Бетховена Сальери, побуждаемый, вероятно, не музыкальными, а патриотическими соображениями, дирижировал вторым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480-753B-495E-BC41-E0193E4C7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ернемся,однако,к миланскому суду. Итак, через двести с лишним лет Антонио Сальери был оправдан «за отсутствием состава преступления». Но, увы, имя его уже стало нарицательным, а для многих - кануло в лету. На Западе этого талантливого композитора помнят лишь в музыкальных кругах, а широкая публика только из оправдательного вердикта узнала, что он подозревался в убийстве великого Моцарта. В России же, где творчество Пушкина знает каждый культурный человек, имя Сальери стало бессмертным.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Но такой славе он наверняка предпочел бы забв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DF9-5D31-4CAC-871D-5F4F65F53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4D1-2360-4B81-8BE3-317ED91F9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0E60-74A9-41C3-96F3-35FBDCDA9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DE7D-6F0A-432C-9778-2AC134B24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авняя легенда соединяет имя Сальери с имене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царт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называя Сальери его предполагаемым убийцей; имя Сальери во многом стало нарицательным для обозначения зависти неталантливого человека к талантливом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        Что может быть ужаснее - быть проклятым в памяти потомков? Убийца гения! А что если проклят без вины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93D-8144-4AA9-AEF9-56033B40D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ая репутация Сальери в значительной степени основана на его образе в художественных произведениях: драм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ушк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оцарт и Сальери» , поставленной по ней опер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мского-Корсако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пьес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итера Шефф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Амадей»  и основанному на не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дноимённому фильм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илоша Форма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E8A-DB76-4E46-B02B-B0D0F9D86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 что если проклят без вины? Спустя двести с лишним лет высокий суд разбирался в том, что же произошло...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майские дни 1997 года в Милане, в главном зале Дворца юстиции проходил необычный судебный процесс: рассматривалось преступление двухвековой давности. Понятно, что живых свидетелей быть не могло. Но правосудие вершилось в точном соответствии с установленной процедурой: судебную коллегию возглавлял председатель городского апелляционного суда, сторону обвинения представлял известный в Италии прокурор, защитниками были два известных миланских адвоката. В свидетели же - с обеих сторон - пригласили знаменитых врачей. Слушалось дело Сальери об отравлении им великого Моцарт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5E0E-3EFB-446B-B8D5-C32014CBF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изнь Венских классиков многим известна - им посвящено множество исследований. О Сальери большинство из нас только и знает, что он отравил Моцарта - из зависти к гению, сам будучи композитором посредственным. Но что же на самом деле являл собой человек, на которого пал столь неслыханный позо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т портрет Антонио Сальери, который нам оставили его друзья: «радушный, жизнерадостный. Остроумный, неисчерпаемый в анекдотах. Славный, изящный человечек (Сальери был маленького роста) с огненно сверкающими глазами. Всегда мил и опрятен, живого темперамента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BC4-718D-429D-B38C-705D9ECF4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24 года Сальери - уже автор многих опер стал императорским камерным композитором и дирижером итальянской оперной труппы в Вене.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узыкальный фаворит Иосифа II на протяжении длительного времени ...не только осуществлял постановки и дирижировал спектаклями, но и управлял придворной певческой капеллой.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его обязанности входило наблюдение за музыкальным обучением в казенных учебных заведениях Вены.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рупнейшие итальянские театры заказывали оперы своему ...соотечественнику. Среди них - венецианский театр "Сан-Мойзе", римский театр "Балле"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ри театра начали свою деятельность постановкой опер Сальери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наменитый миланский театр "Ла Скала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иланский театр "Каноббиана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театр "Нуово" в Триест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...Сальери дирижировал концертами Венского Музыкального Общества, занимая влиятельное место в совете его директоров. Поскольку доходы от продажи билетов шли в пенсионный фонд для музыкантов и их семей, Сальери крайне отрицательно относился к попыткам организации параллельных музыкальных событий во время концертов Общества...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Будучи одним из руководителей, с 1788 по 1795 год президентом, а затем бессменным вице-президентом общества “Концерты в пользу вдов и сирот оркестровых музыкантов”,, он вплоть до 1819 года занимался организацией благотворительных концертов, которыми сам обычно и дирижировал. Сальери стал деятельным членом Венского общества любителей музыки и преподавал там хоровое пение; а с 1813 года входил в комитет по организации Венской консерватории, которую, поначалу функционировавшую под названием Певческой школы, возглавил в 1817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A3F8-0B65-4294-A83F-BA3348667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альери был одним из лучших музыкальных педагогов Вены в области пения, композиции и теории музыки. Отношения с учениками складывались по-разному, но никто из них не вспоминал о нем как о человеке мрачном, желчном, сухом или недоброжелательн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коло шестидесяти европейских композиторов считали себя его ученик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 самым именитым ученикам Сальери можно отнести Шуберта и Ли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Шуберт написал в честь юбилейного чествования Сальери в 1815 году кантату на собственный текс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Лучший, добрейши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лавный, мудрейши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ка во мне есть чувство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ка люблю искусство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ебе с любовью принес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вдохновенье, и слез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добен богу ты во все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елик и сердцем, и умом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ED78-CCC9-4BB3-B353-228720AB1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етховен начал совершенствоваться у Сальери в вокальной композиции в 1793 году. Занятия происходили эпизодически на протяжении н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енее десяти л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онио Сальери был для Бетховена наиболее ценным венским учителем. Он внимательно следил за ростом молодого композитора и стремился научить его писать для голосов так же легко, как это делали итальянцы. Бетховен встречался с ним с удовольствием и даже много лет спустя после прекращения занятий, будучи известным композитором, продолжал считать себя учеником Сальери. В 1809 году, не застав Сальери дома, он оставил ему записку: «Сюда заходил ученик Бетхов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485-D1E8-4FF0-B092-07D2C459A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заимоотношений со старшим поколением венских классиков начинается в Михайловском доме в Вене, который стоит на своем месте до сих п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доме жи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ликий мастер оперного либретто Пьетро Метастазио ,занимавший в Вене должность придворного поэта.Знакомство с ним оказалось Чрезвычайно важным для  юного Сальери. Каждое воскресенье его дом был открыт для всех желающих пообщаться с ним, но лишь избранные допускались на занятия Метастазио итальянской декламацией. Здесь Сальери смог приобщиться к самым изысканным тонкостям  итальянского стиха; эти знания он впоследствии по возможности пытался передать и своим ученик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63D-BAAF-4F47-B5A3-E0297FA1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DF3-4DF3-4B85-9E45-C9E5FF8F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636-5C35-455E-992E-68E459CD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619-4F9A-42F4-82FA-32D21FBF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B5B-D21F-4611-8541-830C43D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D6C-E9B8-4BDB-BE93-323DDD7E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1A1-AE5D-4B27-BC14-B654442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E54-C076-46EC-B4BE-ECED1A8E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A0C-E585-41D7-91A8-E8F8F968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03B-FC16-4672-B181-733E1E1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EBE-671A-4978-A975-2A6B8193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3B2-578E-4B4D-B029-95653276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D448-6DF1-4156-80A5-F71BFC728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5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dic.academic.ru/dic.nsf/enc_music/6743/&#1057;&#1072;&#1083;&#1100;&#1077;&#1088;&#1080;" TargetMode="External"/><Relationship Id="rId3" Type="http://schemas.openxmlformats.org/officeDocument/2006/relationships/hyperlink" Target="http://www.artsalon.ru/forsale/all/all/nazarova/motsisal/big/flash.php3" TargetMode="External"/><Relationship Id="rId4" Type="http://schemas.openxmlformats.org/officeDocument/2006/relationships/hyperlink" Target="http://www.21israel-music.com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1.png"/><Relationship Id="rId4" Type="http://schemas.openxmlformats.org/officeDocument/2006/relationships/image" Target="../media/image6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5562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енские классики и Саль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800" y="51055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стория взаимо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_25b18_ab68c13c_XL"/>
          <p:cNvPicPr/>
          <p:nvPr/>
        </p:nvPicPr>
        <p:blipFill>
          <a:blip r:embed="rId2"/>
          <a:stretch/>
        </p:blipFill>
        <p:spPr>
          <a:xfrm>
            <a:off x="0" y="0"/>
            <a:ext cx="17413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_3097d_471eace4_XL"/>
          <p:cNvPicPr/>
          <p:nvPr/>
        </p:nvPicPr>
        <p:blipFill>
          <a:blip r:embed="rId3"/>
          <a:stretch/>
        </p:blipFill>
        <p:spPr>
          <a:xfrm>
            <a:off x="2133720" y="0"/>
            <a:ext cx="17809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4587840" y="0"/>
            <a:ext cx="18892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alieri"/>
          <p:cNvPicPr/>
          <p:nvPr/>
        </p:nvPicPr>
        <p:blipFill>
          <a:blip r:embed="rId5"/>
          <a:stretch/>
        </p:blipFill>
        <p:spPr>
          <a:xfrm>
            <a:off x="6705720" y="3429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nicola_antonio_porpora"/>
          <p:cNvPicPr/>
          <p:nvPr/>
        </p:nvPicPr>
        <p:blipFill>
          <a:blip r:embed="rId1"/>
          <a:stretch/>
        </p:blipFill>
        <p:spPr>
          <a:xfrm>
            <a:off x="0" y="152280"/>
            <a:ext cx="253224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Metastasio2"/>
          <p:cNvPicPr/>
          <p:nvPr/>
        </p:nvPicPr>
        <p:blipFill>
          <a:blip r:embed="rId2"/>
          <a:stretch/>
        </p:blipFill>
        <p:spPr>
          <a:xfrm>
            <a:off x="0" y="3429000"/>
            <a:ext cx="2259000" cy="314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artinez_marianne"/>
          <p:cNvPicPr/>
          <p:nvPr/>
        </p:nvPicPr>
        <p:blipFill>
          <a:blip r:embed="rId3"/>
          <a:stretch/>
        </p:blipFill>
        <p:spPr>
          <a:xfrm>
            <a:off x="6942240" y="3733920"/>
            <a:ext cx="2201760" cy="291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Моцарт 1"/>
          <p:cNvPicPr/>
          <p:nvPr/>
        </p:nvPicPr>
        <p:blipFill>
          <a:blip r:embed="rId4"/>
          <a:stretch/>
        </p:blipFill>
        <p:spPr>
          <a:xfrm>
            <a:off x="3200400" y="0"/>
            <a:ext cx="256716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e29aa8f76b87"/>
          <p:cNvPicPr/>
          <p:nvPr/>
        </p:nvPicPr>
        <p:blipFill>
          <a:blip r:embed="rId5"/>
          <a:stretch/>
        </p:blipFill>
        <p:spPr>
          <a:xfrm>
            <a:off x="3352680" y="3809880"/>
            <a:ext cx="2432160" cy="281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gaydn5"/>
          <p:cNvPicPr/>
          <p:nvPr/>
        </p:nvPicPr>
        <p:blipFill>
          <a:blip r:embed="rId6"/>
          <a:stretch/>
        </p:blipFill>
        <p:spPr>
          <a:xfrm>
            <a:off x="6095880" y="0"/>
            <a:ext cx="266724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br061"/>
          <p:cNvPicPr/>
          <p:nvPr/>
        </p:nvPicPr>
        <p:blipFill>
          <a:blip r:embed="rId1"/>
          <a:stretch/>
        </p:blipFill>
        <p:spPr>
          <a:xfrm>
            <a:off x="5181480" y="914400"/>
            <a:ext cx="3667320" cy="388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mozart__www_incwell_com"/>
          <p:cNvPicPr/>
          <p:nvPr/>
        </p:nvPicPr>
        <p:blipFill>
          <a:blip r:embed="rId2"/>
          <a:stretch/>
        </p:blipFill>
        <p:spPr>
          <a:xfrm>
            <a:off x="152280" y="380880"/>
            <a:ext cx="465768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952880" y="4952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заимоотношения Моцарта и Сальери были неровными, и известно несколько резких высказываний о Сальери, принадлежащих самому Моцарту и его от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6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6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6453651105985"/>
          <p:cNvPicPr/>
          <p:nvPr/>
        </p:nvPicPr>
        <p:blipFill>
          <a:blip r:embed="rId1"/>
          <a:stretch/>
        </p:blipFill>
        <p:spPr>
          <a:xfrm>
            <a:off x="5754600" y="1371600"/>
            <a:ext cx="33894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sc03989"/>
          <p:cNvPicPr/>
          <p:nvPr/>
        </p:nvPicPr>
        <p:blipFill>
          <a:blip r:embed="rId2"/>
          <a:stretch/>
        </p:blipFill>
        <p:spPr>
          <a:xfrm>
            <a:off x="380880" y="228600"/>
            <a:ext cx="4802400" cy="360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457200" y="41148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В жизни тесной дружбы между этими композиторами не существовало, - как раз из-за подозрительности Моцарта, который относился к Сальери весьма неприязненно, обвинял его во всевозможных кознях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        Правда, со временем их отношения смягч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6b"/>
          <p:cNvPicPr/>
          <p:nvPr/>
        </p:nvPicPr>
        <p:blipFill>
          <a:blip r:embed="rId1"/>
          <a:stretch/>
        </p:blipFill>
        <p:spPr>
          <a:xfrm>
            <a:off x="441360" y="152280"/>
            <a:ext cx="4321080" cy="3733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arge_mozart"/>
          <p:cNvPicPr/>
          <p:nvPr/>
        </p:nvPicPr>
        <p:blipFill>
          <a:blip r:embed="rId2"/>
          <a:stretch/>
        </p:blipFill>
        <p:spPr>
          <a:xfrm>
            <a:off x="4038480" y="3429000"/>
            <a:ext cx="4848480" cy="3238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257800" y="11430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видовал ли Сальери Моцарту? Никто и никогда не замечал в нем зависти. Да и могла ли она возникнуть у него к Моцарт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28600" y="399564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преуспевающего Сальери была такая слава, о которой Моцарт и не мечтал. Грудь Сальери украшали и золотая императорская медаль, и французский орден. Ему не в тягость было помогать собратьям по профе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sal__eri_a.jpg"/>
          <p:cNvPicPr/>
          <p:nvPr/>
        </p:nvPicPr>
        <p:blipFill>
          <a:blip r:embed="rId1"/>
          <a:stretch/>
        </p:blipFill>
        <p:spPr>
          <a:xfrm>
            <a:off x="304920" y="304920"/>
            <a:ext cx="4870440" cy="6302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5562720" y="2209680"/>
            <a:ext cx="327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О порядочности же мастера свидетельствует длинный ряд поступков на протяжении почти всей его активной жизни. Он всегда выказывал преданность всем своим учителям и постоянно участвовал в богоугодных и бескорыстных начинания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8281b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125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1265188613.jpg"/>
          <p:cNvPicPr/>
          <p:nvPr/>
        </p:nvPicPr>
        <p:blipFill>
          <a:blip r:embed="rId2"/>
          <a:stretch/>
        </p:blipFill>
        <p:spPr>
          <a:xfrm>
            <a:off x="5748480" y="4495680"/>
            <a:ext cx="33955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191120" y="16002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ерез двести с лишним лет Антонио Сальери был оправдан миланским судом «за отсутствием состава преступления». Но, увы, имя его уже стало нарицательным, а для многих - кануло в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antonio-salieri-1.jpg"/>
          <p:cNvPicPr/>
          <p:nvPr/>
        </p:nvPicPr>
        <p:blipFill>
          <a:blip r:embed="rId3"/>
          <a:stretch/>
        </p:blipFill>
        <p:spPr>
          <a:xfrm>
            <a:off x="380880" y="914400"/>
            <a:ext cx="37054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02dd27ad9233"/>
          <p:cNvPicPr/>
          <p:nvPr/>
        </p:nvPicPr>
        <p:blipFill>
          <a:blip r:embed="rId1"/>
          <a:stretch/>
        </p:blipFill>
        <p:spPr>
          <a:xfrm>
            <a:off x="1295280" y="1447920"/>
            <a:ext cx="6534360" cy="43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нарская. Классициз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енигсберг.Людвиг ван Бетхов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гарита Ломунова МОЦАРТ И САЛЬЕРИ: ВСТРЕЧА ЧЕРЕЗ ДВА 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.В.Кириллина .ПАСЫНОК ИСТОРИИ (К 250-летию со дня рождения Антонио Сальери)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публиковано в журнале: Музыкальная академия, 2000, № 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dic.academic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proz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www.artsalon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ozecatel-51.livejourna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cultinfo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iskusstvu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ic.academic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www.21israel-music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ские классики и Саль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373356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взаимо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ьбаум Анаста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ШИ г.Свет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 Ягненк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_25b18_ab68c13c_XL"/>
          <p:cNvPicPr/>
          <p:nvPr/>
        </p:nvPicPr>
        <p:blipFill>
          <a:blip r:embed="rId1"/>
          <a:stretch/>
        </p:blipFill>
        <p:spPr>
          <a:xfrm>
            <a:off x="0" y="0"/>
            <a:ext cx="17413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0_3097d_471eace4_XL"/>
          <p:cNvPicPr/>
          <p:nvPr/>
        </p:nvPicPr>
        <p:blipFill>
          <a:blip r:embed="rId2"/>
          <a:stretch/>
        </p:blipFill>
        <p:spPr>
          <a:xfrm>
            <a:off x="2133720" y="0"/>
            <a:ext cx="17809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587840" y="0"/>
            <a:ext cx="18892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alieri"/>
          <p:cNvPicPr/>
          <p:nvPr/>
        </p:nvPicPr>
        <p:blipFill>
          <a:blip r:embed="rId4"/>
          <a:stretch/>
        </p:blipFill>
        <p:spPr>
          <a:xfrm>
            <a:off x="6705720" y="342900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Моцарт sim41_1.mp3" descr=""/>
          <p:cNvPicPr/>
          <p:nvPr/>
        </p:nvPicPr>
        <p:blipFill>
          <a:blip r:embed="rId5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6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81480" y="2209680"/>
            <a:ext cx="3276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няя легенда соединяет имя Сальери с именем Моцарта, называя Сальери его предполагаемым убийцей; имя Сальери во многом стало нарицательным для обозначения зависти неталантливого человека к талантлив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al__eri_a"/>
          <p:cNvPicPr/>
          <p:nvPr/>
        </p:nvPicPr>
        <p:blipFill>
          <a:blip r:embed="rId1"/>
          <a:stretch/>
        </p:blipFill>
        <p:spPr>
          <a:xfrm>
            <a:off x="351000" y="1219320"/>
            <a:ext cx="43225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3853"/>
          <p:cNvPicPr/>
          <p:nvPr/>
        </p:nvPicPr>
        <p:blipFill>
          <a:blip r:embed="rId1"/>
          <a:stretch/>
        </p:blipFill>
        <p:spPr>
          <a:xfrm>
            <a:off x="6335640" y="0"/>
            <a:ext cx="2808360" cy="371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madeus_ver51"/>
          <p:cNvPicPr/>
          <p:nvPr/>
        </p:nvPicPr>
        <p:blipFill>
          <a:blip r:embed="rId2"/>
          <a:stretch/>
        </p:blipFill>
        <p:spPr>
          <a:xfrm>
            <a:off x="4876920" y="2971800"/>
            <a:ext cx="2520720" cy="36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519"/>
          <p:cNvPicPr/>
          <p:nvPr/>
        </p:nvPicPr>
        <p:blipFill>
          <a:blip r:embed="rId3"/>
          <a:stretch/>
        </p:blipFill>
        <p:spPr>
          <a:xfrm>
            <a:off x="0" y="0"/>
            <a:ext cx="2843280" cy="371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afisha"/>
          <p:cNvPicPr/>
          <p:nvPr/>
        </p:nvPicPr>
        <p:blipFill>
          <a:blip r:embed="rId4"/>
          <a:stretch/>
        </p:blipFill>
        <p:spPr>
          <a:xfrm>
            <a:off x="1219320" y="2895480"/>
            <a:ext cx="2595600" cy="3638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200400" y="83808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гативная репутация Сальери в значительной степени основана на его образе в художественны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6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997 год г. 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hoto63"/>
          <p:cNvPicPr/>
          <p:nvPr/>
        </p:nvPicPr>
        <p:blipFill>
          <a:blip r:embed="rId1"/>
          <a:stretch/>
        </p:blipFill>
        <p:spPr>
          <a:xfrm>
            <a:off x="5902200" y="1219320"/>
            <a:ext cx="324180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252341688_i37vokrugsudf12_640"/>
          <p:cNvPicPr/>
          <p:nvPr/>
        </p:nvPicPr>
        <p:blipFill>
          <a:blip r:embed="rId2"/>
          <a:stretch/>
        </p:blipFill>
        <p:spPr>
          <a:xfrm>
            <a:off x="6862680" y="3657600"/>
            <a:ext cx="2281320" cy="285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101"/>
          <p:cNvPicPr/>
          <p:nvPr/>
        </p:nvPicPr>
        <p:blipFill>
          <a:blip r:embed="rId3"/>
          <a:stretch/>
        </p:blipFill>
        <p:spPr>
          <a:xfrm>
            <a:off x="533520" y="990720"/>
            <a:ext cx="3429000" cy="3363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304920" y="4876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майские дни 1997 года в Милане, в главном зале Дворца юстиции проходил необычный судебный процесс: рассматривалось преступление двухвековой давности. Слушалось дело Сальери об отравлении им Моц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нтонио Сальер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(1750 – 182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17 лет создал первое оригинальное сочи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20 дебютировал тремя операми в Ве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24 года стал придворным композитор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рижер итальянской оперной труппы в Вен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29aa8f76b87"/>
          <p:cNvPicPr/>
          <p:nvPr/>
        </p:nvPicPr>
        <p:blipFill>
          <a:blip r:embed="rId1"/>
          <a:stretch/>
        </p:blipFill>
        <p:spPr>
          <a:xfrm>
            <a:off x="4952880" y="1828800"/>
            <a:ext cx="3819600" cy="4352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52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олее 30 лет был вице-президентом общества “Концерты в пользу вдов и сирот оркестровых музыканто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 1819 года занимался организацией благотворительных концертов, которыми сам обычно и дирижир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лен Венского общества любителей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 1813 года входил в комитет по организации Вен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1817 году – первый директор Вен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antonio-salieri-1"/>
          <p:cNvPicPr/>
          <p:nvPr/>
        </p:nvPicPr>
        <p:blipFill>
          <a:blip r:embed="rId1"/>
          <a:stretch/>
        </p:blipFill>
        <p:spPr>
          <a:xfrm>
            <a:off x="235080" y="461880"/>
            <a:ext cx="4717800" cy="6015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38098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альери был одним из лучших музыкальных педагогов Вены в области пения, композиции и теории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Сальери училис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 Иоганн Непомук Гуммель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 Франц Ксавер Зюсмайр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 Игнац Мошеле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д наблюдением Сальери вырос как композитор Франц Шубер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Ференц Лист обучался гармонии, чтению партитур и сольфедж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 Всего около шестидесяти композиторов считали себя его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20_01_06"/>
          <p:cNvPicPr/>
          <p:nvPr/>
        </p:nvPicPr>
        <p:blipFill>
          <a:blip r:embed="rId1"/>
          <a:stretch/>
        </p:blipFill>
        <p:spPr>
          <a:xfrm>
            <a:off x="5410080" y="609480"/>
            <a:ext cx="2106720" cy="32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hubert"/>
          <p:cNvPicPr/>
          <p:nvPr/>
        </p:nvPicPr>
        <p:blipFill>
          <a:blip r:embed="rId2"/>
          <a:stretch/>
        </p:blipFill>
        <p:spPr>
          <a:xfrm>
            <a:off x="6934320" y="3962520"/>
            <a:ext cx="195732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iszt_(Lehmann_portrait)"/>
          <p:cNvPicPr/>
          <p:nvPr/>
        </p:nvPicPr>
        <p:blipFill>
          <a:blip r:embed="rId3"/>
          <a:stretch/>
        </p:blipFill>
        <p:spPr>
          <a:xfrm>
            <a:off x="4343400" y="3962520"/>
            <a:ext cx="213516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638680" y="2590920"/>
            <a:ext cx="3276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Бетховен начал совершенствоваться у Сальери в композиции в 1793 год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_cf61_795f5b95_L"/>
          <p:cNvPicPr/>
          <p:nvPr/>
        </p:nvPicPr>
        <p:blipFill>
          <a:blip r:embed="rId1"/>
          <a:stretch/>
        </p:blipFill>
        <p:spPr>
          <a:xfrm>
            <a:off x="380880" y="304920"/>
            <a:ext cx="5092920" cy="6350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Вена дом где жили Гайдн Метастазио"/>
          <p:cNvPicPr/>
          <p:nvPr/>
        </p:nvPicPr>
        <p:blipFill>
          <a:blip r:embed="rId1"/>
          <a:stretch/>
        </p:blipFill>
        <p:spPr>
          <a:xfrm>
            <a:off x="762120" y="304920"/>
            <a:ext cx="2608200" cy="3405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Вена церковь дом (Михайловский)"/>
          <p:cNvPicPr/>
          <p:nvPr/>
        </p:nvPicPr>
        <p:blipFill>
          <a:blip r:embed="rId2"/>
          <a:stretch/>
        </p:blipFill>
        <p:spPr>
          <a:xfrm>
            <a:off x="5791320" y="457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Вена дом"/>
          <p:cNvPicPr/>
          <p:nvPr/>
        </p:nvPicPr>
        <p:blipFill>
          <a:blip r:embed="rId3"/>
          <a:stretch/>
        </p:blipFill>
        <p:spPr>
          <a:xfrm>
            <a:off x="4952880" y="37339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457200" y="46483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тория взаимоотношений со старшим поколением венских классиков начинается в Михайловском доме в Вене, который стоит на своем месте до сих 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1-04-23T18:48:5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