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2B7-96DA-496A-8D49-825E81FA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C7A-C039-4A2B-AB21-AAB9A5C9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13C-170E-4B92-9741-34A6780B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8A9-4FF0-4A96-B03B-C618B7DC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F72-4F21-4C4C-A529-DFBE150E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546-924F-442C-9ADF-05C97FA3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B81-E3DE-4628-AE7D-7ABCEF03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C37-52D7-4AF5-BAAA-E9AC880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F47-094A-4A48-BE8B-4BF60BF1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530-FFA8-45A1-92FC-2B5DA84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EE2-4062-41E7-9C41-38B30231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A45-721E-42CA-A711-C978075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0EC4-2629-409A-9104-DEDB609E2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medart.ru/" TargetMode="External"/><Relationship Id="rId2" Type="http://schemas.openxmlformats.org/officeDocument/2006/relationships/hyperlink" Target="http://www.masaru-emoto.net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77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599560" y="15228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Музыка излучает такую же энерг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солнце. Как солнце преобразует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у и рождает весну на зем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к музыка преобразует человека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ождает весну в его душе»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. Кабалевск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5"/>
          <p:cNvPicPr/>
          <p:nvPr/>
        </p:nvPicPr>
        <p:blipFill>
          <a:blip r:embed="rId1"/>
          <a:stretch/>
        </p:blipFill>
        <p:spPr>
          <a:xfrm>
            <a:off x="380880" y="228600"/>
            <a:ext cx="3745080" cy="5851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5029200" y="5410080"/>
            <a:ext cx="319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ь Дав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5181480" y="533520"/>
            <a:ext cx="312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сохранила сведения о том, что многие исторические личности пользовались приемами музыкальной терапии. Царь Давид своей игрой на арфе вылечил от депрессии царя Саула, а также спас его от нечистых ду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9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скулап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191120" cy="640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5410080" y="130428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скулап лечил радикулит громкими звуками трубы. Однажды он своей музыкой возвратил безумному благоразум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394344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991440" y="4989600"/>
            <a:ext cx="272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ицен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380880" y="609480"/>
            <a:ext cx="373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врачеватель древности Авиценна называл мелодию "нелекарственным" способом лечения наряду с диетой, запахами и смехом. Уже тысячу лет назад он исцелял музыкой нервно бо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80520" y="5638320"/>
            <a:ext cx="3048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1280" indent="-341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333684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724280" y="634320"/>
            <a:ext cx="4038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ифагор учился музыке в Египте. Он основал науку о гармонии сфер, утвердив музыку как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уку. Известно, что пифагорейцы пользовались специальными мелодиями против ярости и гнева. Они заметили, что музыка благотворно влияет на интеллект и проводили занятия математикой под музыку. Пифагор сам сочинял музыку, основанную на определённых мелодиях и ритмах, которые не просто лечили, но «очищали» человеческие действия и страсти, восстанавливали гармонию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emoto"/>
          <p:cNvPicPr/>
          <p:nvPr/>
        </p:nvPicPr>
        <p:blipFill>
          <a:blip r:embed="rId1"/>
          <a:stretch/>
        </p:blipFill>
        <p:spPr>
          <a:xfrm>
            <a:off x="609480" y="609480"/>
            <a:ext cx="4419720" cy="4800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4800600" y="5562720"/>
            <a:ext cx="452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то Маса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5410080" y="457200"/>
            <a:ext cx="335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сем недавно в Японии опубликованы удивительные фотографии, на которых представлена музыка, запечатленная в воде. Их автор - президент Токийского института общих проблем доктор Эмото Мас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1"/>
          <p:cNvSpPr/>
          <p:nvPr/>
        </p:nvSpPr>
        <p:spPr>
          <a:xfrm>
            <a:off x="5791320" y="320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лькл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4038480" y="36576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ючевая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0" y="28195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допроводная 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1981080" y="32767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ждественский гим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611640" y="-250740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598320" y="-102348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600480" y="731880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603720" y="875700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Эффект влияния музыки на структурирование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7391520" y="27432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ческая му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2590920" y="58672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ц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304920" y="53341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тховен «Пастора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7162920" y="51814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яжелый 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4648320" y="58356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х «Ар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Тихая ночь"/>
          <p:cNvPicPr/>
          <p:nvPr/>
        </p:nvPicPr>
        <p:blipFill>
          <a:blip r:embed="rId1"/>
          <a:stretch/>
        </p:blipFill>
        <p:spPr>
          <a:xfrm>
            <a:off x="3276720" y="2514600"/>
            <a:ext cx="299880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водопроводная вода"/>
          <p:cNvPicPr/>
          <p:nvPr/>
        </p:nvPicPr>
        <p:blipFill>
          <a:blip r:embed="rId2"/>
          <a:stretch/>
        </p:blipFill>
        <p:spPr>
          <a:xfrm>
            <a:off x="3276720" y="25146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self-discovery.ru/library/masaru_emoto/water_image/wat_shimanto_river.jpg"/>
          <p:cNvPicPr/>
          <p:nvPr/>
        </p:nvPicPr>
        <p:blipFill>
          <a:blip r:embed="rId3"/>
          <a:stretch/>
        </p:blipFill>
        <p:spPr>
          <a:xfrm>
            <a:off x="3124080" y="2514600"/>
            <a:ext cx="3505320" cy="313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Народный танец Кавачи"/>
          <p:cNvPicPr/>
          <p:nvPr/>
        </p:nvPicPr>
        <p:blipFill>
          <a:blip r:embed="rId4"/>
          <a:stretch/>
        </p:blipFill>
        <p:spPr>
          <a:xfrm>
            <a:off x="3200400" y="2514600"/>
            <a:ext cx="323676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классич"/>
          <p:cNvPicPr/>
          <p:nvPr/>
        </p:nvPicPr>
        <p:blipFill>
          <a:blip r:embed="rId5"/>
          <a:stretch/>
        </p:blipFill>
        <p:spPr>
          <a:xfrm>
            <a:off x="3124080" y="251460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вода"/>
          <p:cNvPicPr/>
          <p:nvPr/>
        </p:nvPicPr>
        <p:blipFill>
          <a:blip r:embed="rId6"/>
          <a:stretch/>
        </p:blipFill>
        <p:spPr>
          <a:xfrm>
            <a:off x="3048120" y="2514600"/>
            <a:ext cx="3581280" cy="3003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Моцарт"/>
          <p:cNvPicPr/>
          <p:nvPr/>
        </p:nvPicPr>
        <p:blipFill>
          <a:blip r:embed="rId7"/>
          <a:stretch/>
        </p:blipFill>
        <p:spPr>
          <a:xfrm>
            <a:off x="3048120" y="2514600"/>
            <a:ext cx="3504960" cy="316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Бах Ария"/>
          <p:cNvPicPr/>
          <p:nvPr/>
        </p:nvPicPr>
        <p:blipFill>
          <a:blip r:embed="rId8"/>
          <a:stretch/>
        </p:blipFill>
        <p:spPr>
          <a:xfrm>
            <a:off x="3048120" y="2514600"/>
            <a:ext cx="3581280" cy="32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рок2"/>
          <p:cNvPicPr/>
          <p:nvPr/>
        </p:nvPicPr>
        <p:blipFill>
          <a:blip r:embed="rId9"/>
          <a:stretch/>
        </p:blipFill>
        <p:spPr>
          <a:xfrm>
            <a:off x="3048120" y="2514600"/>
            <a:ext cx="34290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16281E-007 L -0.41667 -0.29972 E">
                                      <p:cBhvr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9325E-006 L -0.20834 -0.23311 E">
                                      <p:cBhvr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7.04903E-006 L -0.02499 -0.18872 E">
                                      <p:cBhvr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20907E-006 L 0.17309 -0.27753 E">
                                      <p:cBhvr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32562E-007 L 0.35833 -0.33303 E">
                                      <p:cBhvr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1702E-006 L -0.42084 0.09204 E">
                                      <p:cBhvr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850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5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01758E-006 L -0.2 0.13575 E">
                                      <p:cBhvr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1500"/>
                            </p:stCondLst>
                            <p:childTnLst>
                              <p:par>
                                <p:cTn id="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35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08788E-006 L 0.05 0.1332 E">
                                      <p:cBhvr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4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65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947E-006 L 0.325 0.0333 E">
                                      <p:cBhvr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447920" y="402840"/>
            <a:ext cx="6095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ёный разработал следующую технологию: он дает воде "прослушать" мелодию Моцарта, Бетховена или Баха, после чего эту жидкость замораживает и получает изображение. Выяснилось, что оно у каждой мелодии индивидуаль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им является одно - полученные снимки всегда красивы, гармоничны и строго симметричны. Когда же на воду воздействуют раздражающей музыкой, такой как «тяжелый рок», образуются уродливые и неправильные  кристал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кольку организм человека на 70% состоит из воды можно предположить, что для лучшего самочувствия необходимо слушать произведения классических композит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бах1"/>
          <p:cNvPicPr/>
          <p:nvPr/>
        </p:nvPicPr>
        <p:blipFill>
          <a:blip r:embed="rId1"/>
          <a:stretch/>
        </p:blipFill>
        <p:spPr>
          <a:xfrm>
            <a:off x="819000" y="380880"/>
            <a:ext cx="8172720" cy="37339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838080" y="4648320"/>
            <a:ext cx="746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естный русский хирург академик Б.Петровский использовал музыку во время сложных операций. Согласно его наблюдениям под воздействием музыки организм начинает работать более гармонич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Бах"/>
          <p:cNvPicPr/>
          <p:nvPr/>
        </p:nvPicPr>
        <p:blipFill>
          <a:blip r:embed="rId1"/>
          <a:stretch/>
        </p:blipFill>
        <p:spPr>
          <a:xfrm>
            <a:off x="5334120" y="304920"/>
            <a:ext cx="3465360" cy="3717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04920" y="1542240"/>
            <a:ext cx="502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ще в 19 веке ученый И. Догель установил, что под воздействием музыки меняются кровяное давление, частота сокращений сердечной мышцы, ритм и глубина дыхания, как у животных, так и у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 сердечный ритм составляет в основном 68-72 удара в минуту, в то время как ритм музыки Баха, Вивальди составляет всего 60 четвертей в минуту. При прослушивании такой музыки наше сердце подстраивается под этот ритм, и мы поневоле расслабляе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380880" y="1691280"/>
            <a:ext cx="7772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но, что когда функции органа нарушаются, он начинает работать в ином ритме, изменяется частота и сила его вибраций. Больное сердце - яркий пример. И вот тут на помощь приходит музы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знать, с каким инструментом в унисон звучит сбившийся с ритма орган, и регулярно слушать исполняемую на ней музыку, ритмы "исцеляющего" инструмента помогут организму человека вновь обрести прежнее "звучание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исследований учёные выявили такие взаимосвязи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музыкальный инструмент – орган тела 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686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Влияние музыки на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окружающий ми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19360" y="3048120"/>
            <a:ext cx="4267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 Азарова Ан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тепианное отделение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ая музыкальная школа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Салах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ьг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267080" cy="3195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143000" y="228600"/>
          <a:ext cx="6858000" cy="6539040"/>
        </p:xfrm>
        <a:graphic>
          <a:graphicData uri="http://schemas.openxmlformats.org/drawingml/2006/table">
            <a:tbl>
              <a:tblPr/>
              <a:tblGrid>
                <a:gridCol w="4030560"/>
                <a:gridCol w="2827440"/>
              </a:tblGrid>
              <a:tr h="274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анино и синтезатор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, мочевой пузы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илофон, барабан и деревянные духовые инструменты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ейта, гобой, английский рожок, фаг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желчный пузырь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софон, металлофон, колоколь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, толстая ки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рипка, гитара, контрабас, виолонч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е, тонкая ки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ейта-пикколо и клар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крово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нные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ечно-сосудистая систем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яное 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ей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рип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 и бронх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ани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товид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б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е, кровеносн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ф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олонч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мб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ян и аккорде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юшная по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1043374"/>
          <p:cNvPicPr/>
          <p:nvPr/>
        </p:nvPicPr>
        <p:blipFill>
          <a:blip r:embed="rId1"/>
          <a:stretch/>
        </p:blipFill>
        <p:spPr>
          <a:xfrm>
            <a:off x="228600" y="2438280"/>
            <a:ext cx="8686800" cy="41911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380880" y="304920"/>
            <a:ext cx="8229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сложном земном мире любое явление можно использовать как во благо, так и во вред. Музыка - не исключ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тельно, в последние десятилетия   появилось множество новых музыкальных направлений. И большинство из них, отмечают исследователи, действуют разрушительно на живые организ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94240"/>
          <p:cNvPicPr/>
          <p:nvPr/>
        </p:nvPicPr>
        <p:blipFill>
          <a:blip r:embed="rId1"/>
          <a:stretch/>
        </p:blipFill>
        <p:spPr>
          <a:xfrm>
            <a:off x="4038480" y="457200"/>
            <a:ext cx="446580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457200" y="380988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ния и животные предпочитают гармоничную музыку. Например, дельфины с удовольствием слушают классическую музыку, особенно Баха. Услышав классические произведения, акулы собираются со всего океанского побереж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ния и цветы под классическую музыку быстрее расправляют свои листья и лепест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Рок"/>
          <p:cNvPicPr/>
          <p:nvPr/>
        </p:nvPicPr>
        <p:blipFill>
          <a:blip r:embed="rId1"/>
          <a:stretch/>
        </p:blipFill>
        <p:spPr>
          <a:xfrm>
            <a:off x="4572000" y="228600"/>
            <a:ext cx="4267080" cy="6400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57200" y="481680"/>
            <a:ext cx="38098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звуки современной "попсы" коровы ложатся и отказываются есть, растения быстрее вянут, 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овек загромождает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е жизненное пространство хаотическим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ибрац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узыка, которую можно назвать вредной, отличается частым диссонансом, отсутствием формы, нерегулярностью и "бешенностью" своих рит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вредно отражается на псих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marmanson35"/>
          <p:cNvPicPr/>
          <p:nvPr/>
        </p:nvPicPr>
        <p:blipFill>
          <a:blip r:embed="rId1"/>
          <a:stretch/>
        </p:blipFill>
        <p:spPr>
          <a:xfrm>
            <a:off x="152280" y="45720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419720" y="18000"/>
            <a:ext cx="4724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усский психолог Д. Азаров однажды признался: "Мне удалось выделить сочетание нот, сходное для всех случаев самоубийства. Когда я несколько раз прослушал эту музыкальную фразу, то ощутил такой прилив мрачного настроения, что сам был готов полезть в петлю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жество музыкальных произведений современности созданы из "звуков-убийц"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к-музыка способна подтолкнуть человека на крайний ша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09480" y="4123800"/>
            <a:ext cx="815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 сих пор не выяснены истинные мотивы самоубийств солиста группы "Лесоповал", гитариста группы "Черный кофе", технического сотрудника группы "Технология", гитариста группы "Алиса". Психолог Азаров "прогнал" через компьютер все сочинения этих коллективов и обнаружил, что в их музыке часто повторялось одно роковое сочетание нот, ведущее к самоуничто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276538_2"/>
          <p:cNvPicPr/>
          <p:nvPr/>
        </p:nvPicPr>
        <p:blipFill>
          <a:blip r:embed="rId1"/>
          <a:stretch/>
        </p:blipFill>
        <p:spPr>
          <a:xfrm>
            <a:off x="2362320" y="152280"/>
            <a:ext cx="3886200" cy="2637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609480" y="297180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льянские  учёные наблюдали за двумя группами мышей, блуждавших по лабиринту в поисках приготовленной пи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одна группа слушал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льсы Штрау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другая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рабанный б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был таков: «вальсирующие» стали ориентироваться в лабиринте лучше, чем прежде, а вот зверьки, мчавшиеся под звуки барабана, не могли найти правильную дорогу. Изучив в последующем ткани мозга мышек приученных к барабанной дроби, ученые выяви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клон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витии нейронов определенного участка мозга. По мнению исследователей, именно эти отклонения «мешали» животным ориентироваться в пространстве и чему-нибудь науч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68"/>
          <p:cNvPicPr/>
          <p:nvPr/>
        </p:nvPicPr>
        <p:blipFill>
          <a:blip r:embed="rId1"/>
          <a:stretch/>
        </p:blipFill>
        <p:spPr>
          <a:xfrm>
            <a:off x="533520" y="380880"/>
            <a:ext cx="3830400" cy="3962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4724280" y="2680560"/>
            <a:ext cx="4114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-то скажет: « Если такая музыка существует, значит, она кому-то нужна». Да, мир земной несовершенен. Но познаётся всё в сравнении. Каждый человек волен выбирать, что ему ближе. И всё же, я считаю, чтоб уберечь себя и нашу землю от разрушения, важно наполнять окружающий мир гармон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ы анкетирования.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было опрошено 25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523880"/>
          <a:ext cx="7619760" cy="4849920"/>
        </p:xfrm>
        <a:graphic>
          <a:graphicData uri="http://schemas.openxmlformats.org/drawingml/2006/table">
            <a:tbl>
              <a:tblPr/>
              <a:tblGrid>
                <a:gridCol w="3286080"/>
                <a:gridCol w="2038320"/>
                <a:gridCol w="2295360"/>
              </a:tblGrid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или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или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Часто ли вы слушаете классическую музык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гласны ли вы с утверждением: если перед контрольной работой послушать классику, то оценка будет выш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лушаете ли вы ро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еримент у младших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600200"/>
          <a:ext cx="8153280" cy="4764240"/>
        </p:xfrm>
        <a:graphic>
          <a:graphicData uri="http://schemas.openxmlformats.org/drawingml/2006/table">
            <a:tbl>
              <a:tblPr/>
              <a:tblGrid>
                <a:gridCol w="4724280"/>
                <a:gridCol w="1676520"/>
                <a:gridCol w="1752480"/>
              </a:tblGrid>
              <a:tr h="103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 под музыку Моца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 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контро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 разных стилей влияет на организм человека, животных и окружающую среду по-раз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ческая музыка благотворно влияет на умственную деятельность и здоровье человека, поведение животных, рост растений, состоя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к- и поп-музыка негативно влияет на умственное развитие и поведение молодого поко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457200" y="42670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екоторые стили современной   музыки негативно влияют на поведение и умственную деятельность молодого покол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04920" y="419112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257800" y="15228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457200" y="12952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облема: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наше время люди большое внимание уделяют музыке, а правильный ли выбор они дел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ом, что слушание классической музыки окажет положительное влияние на учебный процесс в школе, активизирует    мышление, позволит лучше сосредоточиться –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дтверд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9072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исок источников информ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эмпбелл Д. Дж. Эффект Моцарта. \ Пер. с англ. Л.М. Щукин. – Мн.: ООО «Попурри»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ро Д. «21 урок Мерлина. Магические знания друидов» - Киев, 199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дниченко Т.В. «Музыка в истории культуры» - Аллегро-пресс,199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 – ресурс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.wikipedi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edsport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art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saru-emoto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8"/>
          <p:cNvSpPr/>
          <p:nvPr/>
        </p:nvSpPr>
        <p:spPr>
          <a:xfrm>
            <a:off x="3886200" y="533520"/>
            <a:ext cx="5638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ить влияние музыки на умственную деятельность и физическое состояние человека, поведение животных и окружающую среду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047760"/>
            <a:ext cx="883908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) изучить литературу о влиянии музыки на организм человека, животных, вод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2) провести опрос среди учащихся гимнази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3) провести эксперимент в младших классах СОШ №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шание классической музыки окажет положительное влияние на учебный процесс в школе, активизирует    мыш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0" y="60948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ми данными  подтверждаются знания древних учёных о том, что музыка обладает волшебной силой, являясь мощнейшим источником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музыкального искусства на человека в разное время изучали: философы Ж.Ж.Руссо, Г.Ф.Гегель, А.Шопенгауэр, психологи и нейрофизиологи В.Леви, Л.Я.Дорфман, А.Н.Леонтьев, педагоги и музыканты К. Орф, Д.К. Кирнарская, Л.В. Курилен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38008"/>
          <p:cNvPicPr/>
          <p:nvPr/>
        </p:nvPicPr>
        <p:blipFill>
          <a:blip r:embed="rId1"/>
          <a:stretch/>
        </p:blipFill>
        <p:spPr>
          <a:xfrm>
            <a:off x="457200" y="304920"/>
            <a:ext cx="4138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808630"/>
          <p:cNvPicPr/>
          <p:nvPr/>
        </p:nvPicPr>
        <p:blipFill>
          <a:blip r:embed="rId1"/>
          <a:stretch/>
        </p:blipFill>
        <p:spPr>
          <a:xfrm>
            <a:off x="5029200" y="380880"/>
            <a:ext cx="377208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380880" y="8380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узыке можно найти всё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окоение, энергию, здоровье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 лишь уметь слуш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 усиливает любую рад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окаивает любую печаль, изгон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и, смягчает любую бо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льтские жрецы придавали му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олько большое значение, что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ордене была установл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ьная категория – Бард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занимались изучением и распространением музы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имели понятие о цветовых оттенках музыки, об инструментах, которые позволяют управлять Королями Стихий и о том, как сделать такие инструменты; о том как создать песенное Заклинание – пение Барда – это духовное действо, источником которого служит сама Зем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др"/>
          <p:cNvPicPr/>
          <p:nvPr/>
        </p:nvPicPr>
        <p:blipFill>
          <a:blip r:embed="rId1"/>
          <a:stretch/>
        </p:blipFill>
        <p:spPr>
          <a:xfrm>
            <a:off x="5029200" y="1371600"/>
            <a:ext cx="376884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990720" y="228600"/>
            <a:ext cx="3276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легендам о друидах основа Песенных Заклинаний – традиция, уходящая с корнями в солнечную страну древних атлантов, которую продолжили Барды и древние греки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ды были связаны обещанием использовать Песенные Заклинания для самых добрых дел, а потом передавать свою мудрость тому, кто лучше всех ее сохран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клинания имели огромную си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ф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19724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660917s"/>
          <p:cNvPicPr/>
          <p:nvPr/>
        </p:nvPicPr>
        <p:blipFill>
          <a:blip r:embed="rId2"/>
          <a:stretch/>
        </p:blipFill>
        <p:spPr>
          <a:xfrm>
            <a:off x="1066680" y="457200"/>
            <a:ext cx="1694160" cy="2362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853200" y="4684680"/>
            <a:ext cx="29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33520" y="3439440"/>
            <a:ext cx="365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йной гармоничных звучаний владел и Орфей. Его музыка благотворно влияла на все живое вокруг. В преданьях говорится, что даже деревья склонялись к земле, чтобы лучше услышать его музы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1-10-28T19:17:0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