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gif" ContentType="image/gif"/>
  <Override PartName="/ppt/media/image18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189D-E2F4-435B-AAD2-0B5E01D99A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2CA9-185A-4F8F-9E1F-D34AFF5205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889-3F54-460E-B9F0-36344A91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F5E-BAA7-44A6-9558-AE5B553C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33C-FB48-4497-BFE3-7109D663A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276-5EC5-4DB9-B267-970AE4BE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475-24DF-45BF-9B9A-DCE37F06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CBB3-17D2-41E5-B278-BE3ACFF2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4BFF-6660-428F-9D7A-DCE28936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BAE-FF2E-4E04-A007-EB5C1A2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FD6D-B3BD-4EF6-85FA-CAB89D7C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021-E25B-496E-8EA2-0A0082E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75A1-257E-4BDF-8B10-3E20FFE3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2ED-D3D6-4CD6-BE9F-E22B864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B4C1-A28E-41A9-B40D-CB91BD1AD4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133360"/>
            <a:ext cx="6705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84807"/>
                </a:solidFill>
                <a:latin typeface="a_OldTyperNr"/>
              </a:rPr>
              <a:t>Дом-музей П.И.Чайковского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123720" y="502920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готовила  Буханцева Валерия, 7 класс, 13 л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уководитель Сурова Наталья Алекс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http://mediasubs.ru/group/uploads/sv/svobodnyij-mikrofon/image2/QyNmItN2Y.jpg"/>
          <p:cNvPicPr/>
          <p:nvPr/>
        </p:nvPicPr>
        <p:blipFill>
          <a:blip r:embed="rId2"/>
          <a:stretch/>
        </p:blipFill>
        <p:spPr>
          <a:xfrm>
            <a:off x="685800" y="4114800"/>
            <a:ext cx="2514600" cy="19479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51" name="Прямоугольник 9"/>
          <p:cNvSpPr/>
          <p:nvPr/>
        </p:nvSpPr>
        <p:spPr>
          <a:xfrm>
            <a:off x="1600200" y="3657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228600" y="60948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ниципальное автономное образовательное учреждение дополнительного образования детей муниципального образования "Светловский городской округ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"Детская школа искусств г.Светлого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прочем, возможности телевидения и интернета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могут нам  заглянуть в музей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значительно оживят нашу экскурсию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3966120" y="6019920"/>
            <a:ext cx="9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"/>
              </a:rPr>
              <a:t>(виде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http://www.ducktour.ru/images/content/1_6d368a52d0fd544995214b9fd74fbbdb.JPG"/>
          <p:cNvPicPr/>
          <p:nvPr/>
        </p:nvPicPr>
        <p:blipFill>
          <a:blip r:embed="rId2"/>
          <a:stretch/>
        </p:blipFill>
        <p:spPr>
          <a:xfrm>
            <a:off x="2286000" y="1981080"/>
            <a:ext cx="4292640" cy="32194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104" name="Прямоугольник 8"/>
          <p:cNvSpPr/>
          <p:nvPr/>
        </p:nvSpPr>
        <p:spPr>
          <a:xfrm>
            <a:off x="1981080" y="53341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позволяет нам  не чувствовать   себ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торванными от большой Росс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2498400" y="609480"/>
            <a:ext cx="404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a_OldTyperNr"/>
                <a:ea typeface="Arial"/>
              </a:rPr>
              <a:t>Музей и соврем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В наши дн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1828800" y="10666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ей живет активной творческой жиз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685800" y="2133720"/>
            <a:ext cx="22096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йков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 и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150200" y="5638680"/>
            <a:ext cx="1025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4122000" y="56386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bd97"/>
                </a:solidFill>
                <a:latin typeface="Arial"/>
              </a:rPr>
              <a:t>(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7170120" y="56386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4bd97"/>
                </a:solidFill>
                <a:latin typeface="Arial"/>
              </a:rPr>
              <a:t>(виде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3662640" y="2057400"/>
            <a:ext cx="1946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арок му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2"/>
          <p:cNvSpPr/>
          <p:nvPr/>
        </p:nvSpPr>
        <p:spPr>
          <a:xfrm>
            <a:off x="6637320" y="2286000"/>
            <a:ext cx="1779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язь вре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img-fotki.yandex.ru/get/5304/random-499.24e/0_533d7_6fe57feb_XL"/>
          <p:cNvPicPr/>
          <p:nvPr/>
        </p:nvPicPr>
        <p:blipFill>
          <a:blip r:embed="rId2"/>
          <a:stretch/>
        </p:blipFill>
        <p:spPr>
          <a:xfrm>
            <a:off x="609480" y="3276720"/>
            <a:ext cx="2992680" cy="209700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115" name="Picture 4" descr="http://im5-tub-ru.yandex.net/i?id=287364663-59-72&amp;n=21"/>
          <p:cNvPicPr/>
          <p:nvPr/>
        </p:nvPicPr>
        <p:blipFill>
          <a:blip r:embed="rId3"/>
          <a:stretch/>
        </p:blipFill>
        <p:spPr>
          <a:xfrm>
            <a:off x="5562720" y="3657600"/>
            <a:ext cx="2828880" cy="18860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116" name="Picture 5" descr="muzikaa-681"/>
          <p:cNvPicPr/>
          <p:nvPr/>
        </p:nvPicPr>
        <p:blipFill>
          <a:blip r:embed="rId4"/>
          <a:stretch/>
        </p:blipFill>
        <p:spPr>
          <a:xfrm>
            <a:off x="3505320" y="2743200"/>
            <a:ext cx="2209680" cy="19749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343040" y="159984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_OldTyperNr"/>
              </a:rPr>
              <a:t>«Мне дома хорош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_OldTyperNr"/>
              </a:rPr>
              <a:t>и заниматься я ниг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_OldTyperNr"/>
              </a:rPr>
              <a:t>не могу с та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_OldTyperNr"/>
              </a:rPr>
              <a:t>удобствами, как здес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_OldTyperN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_OldTyperN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gguide.users.photofile.ru/photo/gguide/200764999/xlarge/210924368.jpg"/>
          <p:cNvPicPr/>
          <p:nvPr/>
        </p:nvPicPr>
        <p:blipFill>
          <a:blip r:embed="rId2"/>
          <a:stretch/>
        </p:blipFill>
        <p:spPr>
          <a:xfrm>
            <a:off x="685800" y="990720"/>
            <a:ext cx="3390840" cy="452592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119" name="Прямоугольник 4"/>
          <p:cNvSpPr/>
          <p:nvPr/>
        </p:nvSpPr>
        <p:spPr>
          <a:xfrm>
            <a:off x="4572000" y="4495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_OldTyperNr"/>
              </a:rPr>
              <a:t>П.И.Чай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_OldTyperNr"/>
              </a:rPr>
              <a:t>         </a:t>
            </a:r>
            <a:r>
              <a:rPr b="1" lang="en-US" sz="1800" spc="-1" strike="noStrike">
                <a:solidFill>
                  <a:srgbClr val="e46c0a"/>
                </a:solidFill>
                <a:latin typeface="a_OldTyperNr"/>
              </a:rPr>
              <a:t>о доме в Кл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000"/>
                            </p:stCondLst>
                            <p:childTnLst>
                              <p:par>
                                <p:cTn id="3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80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Побывать в музее нам помогли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838080" y="1371600"/>
            <a:ext cx="7696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book.ru/tchaikovsky/musik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video.yandex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go.mail.ru/search_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bel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o.rambler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ashural.ru/Gor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i-tchaikovsky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chaikovsky-house-museum.ru/excurs/skr035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.glinka.museum/about/contacts.php#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raeved1147.ru/klin-chaykovski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. Давыдова.   Чайковский в Клину. Советская   Россия, М.,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. Холодковский.   Дом в Клину. М., 1982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894240" y="5257800"/>
            <a:ext cx="744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За что мы всем безмерно благодарн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Музыкальные адреса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дин из уроков музыкальной литературы  мы превратили в увлекательное путешествие по музыкальным адресам России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762120" y="2133720"/>
            <a:ext cx="754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или экскурсии и побывали в музее Рахманинова в Ивановке,  «прошлись» по квартире Скрябина в Москве,  узнали об одном из самых больших музыкальных музеев мира  -  музее музыкальной культуры имени Глинки,  познакомились с  «музыкальными» скульптурами Коненкова в музеях Москвы и Смолен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38080" y="39625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Мой небольшой вклад в это путешествие – музей Петра Ильича Чайков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www.libex.ru/dimg/1ba4c.jpg"/>
          <p:cNvPicPr/>
          <p:nvPr/>
        </p:nvPicPr>
        <p:blipFill>
          <a:blip r:embed="rId2"/>
          <a:stretch/>
        </p:blipFill>
        <p:spPr>
          <a:xfrm>
            <a:off x="5715000" y="4343400"/>
            <a:ext cx="2209680" cy="19749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В гости к Чайковском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609480" y="36576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И неудивительно, что в нашей стране бережно чтят все места, связанные с его и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img_28960639_259_1"/>
          <p:cNvPicPr/>
          <p:nvPr/>
        </p:nvPicPr>
        <p:blipFill>
          <a:blip r:embed="rId2"/>
          <a:stretch/>
        </p:blipFill>
        <p:spPr>
          <a:xfrm>
            <a:off x="5334120" y="1676520"/>
            <a:ext cx="2881080" cy="371952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61" name="Прямоугольник 11"/>
          <p:cNvSpPr/>
          <p:nvPr/>
        </p:nvSpPr>
        <p:spPr>
          <a:xfrm>
            <a:off x="60948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Язык музыки великого русского композитора одинаково понятен и близок людям всех национальностей, населяющих нашу план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чайковский  симфония 2ч 2.wav" descr=""/>
          <p:cNvPicPr/>
          <p:nvPr/>
        </p:nvPicPr>
        <p:blipFill>
          <a:blip r:embed="rId3"/>
          <a:stretch/>
        </p:blipFill>
        <p:spPr>
          <a:xfrm>
            <a:off x="1447920" y="5410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http://gdehorosho.ru/upload/photos3/alapaevskiy-memorial-nyy-dom-muzey-p-i-chaykovskogo-9c1d.jpg"/>
          <p:cNvPicPr/>
          <p:nvPr/>
        </p:nvPicPr>
        <p:blipFill>
          <a:blip r:embed="rId2"/>
          <a:stretch/>
        </p:blipFill>
        <p:spPr>
          <a:xfrm>
            <a:off x="762120" y="3809880"/>
            <a:ext cx="3200400" cy="24004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64" name="Picture 2" descr="muzei"/>
          <p:cNvPicPr/>
          <p:nvPr/>
        </p:nvPicPr>
        <p:blipFill>
          <a:blip r:embed="rId3"/>
          <a:stretch/>
        </p:blipFill>
        <p:spPr>
          <a:xfrm>
            <a:off x="4648320" y="1752480"/>
            <a:ext cx="3678120" cy="24386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65" name="Прямоугольник 3"/>
          <p:cNvSpPr/>
          <p:nvPr/>
        </p:nvSpPr>
        <p:spPr>
          <a:xfrm>
            <a:off x="533520" y="2057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мориально-архитектурный комплекс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"Музей-усадьба П.И. Чайковского» в Воткинск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где родился Петр Иль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495680" y="50292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e46c0a"/>
                </a:solidFill>
                <a:latin typeface="Arial"/>
              </a:rPr>
              <a:t>Алапаевский мемориальный дом-музе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где Чайковский  жил в 1849-1850г.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922680" y="762120"/>
            <a:ext cx="43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В гости к композитору приглашаю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ей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«Чайковский и Москва»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6"/>
          <p:cNvSpPr/>
          <p:nvPr/>
        </p:nvSpPr>
        <p:spPr>
          <a:xfrm>
            <a:off x="2745360" y="914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4"/>
          <p:cNvSpPr/>
          <p:nvPr/>
        </p:nvSpPr>
        <p:spPr>
          <a:xfrm>
            <a:off x="533520" y="1143000"/>
            <a:ext cx="8001000" cy="19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Особое место в этом списке занимает подмосковный город </a:t>
            </a:r>
            <a:r>
              <a:rPr b="1" lang="en-US" sz="2000" spc="-1" strike="noStrike">
                <a:solidFill>
                  <a:srgbClr val="e46c0a"/>
                </a:solidFill>
                <a:latin typeface="Arial"/>
              </a:rPr>
              <a:t>Клин</a:t>
            </a: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3f"/>
                </a:solidFill>
                <a:latin typeface="Arial"/>
              </a:rPr>
              <a:t>Поток посетителей ежедневно устремляется к небольшому двухэтажному дому, в котором в последние годы жил и творил Петр Иль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H:\музыкальные музеи\клин\город.jpg"/>
          <p:cNvPicPr/>
          <p:nvPr/>
        </p:nvPicPr>
        <p:blipFill>
          <a:blip r:embed="rId2"/>
          <a:stretch/>
        </p:blipFill>
        <p:spPr>
          <a:xfrm>
            <a:off x="3962520" y="2590920"/>
            <a:ext cx="4533840" cy="33177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71" name="Picture 10" descr="http://tchaikovsky-house-museum.ru/excurs/pic/kl16.jpg"/>
          <p:cNvPicPr/>
          <p:nvPr/>
        </p:nvPicPr>
        <p:blipFill>
          <a:blip r:embed="rId3"/>
          <a:stretch/>
        </p:blipFill>
        <p:spPr>
          <a:xfrm>
            <a:off x="685800" y="3124080"/>
            <a:ext cx="3581280" cy="31114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72" name="Прямоугольник 8"/>
          <p:cNvSpPr/>
          <p:nvPr/>
        </p:nvSpPr>
        <p:spPr>
          <a:xfrm>
            <a:off x="2912400" y="762120"/>
            <a:ext cx="25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Дом в Кл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Первый мемориальный музей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880" y="9140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 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Дом-музей П.И. Чайковского, - первый в России мемориальный музыкальный музей. Основан 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94 г.</a:t>
            </a:r>
            <a:r>
              <a:rPr b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Основателем и первым директором музея был Модест Ильич, брат композит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Музей располагается в Клину, в восьмидесят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километрах от Москвы,  в доме, который П.И. Чайковский снимал у мирового судьи В.С. Сахарова в последние годы жиз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В любое время года  своим уютом дом привлекает г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http://tchaikovsky-house-museum.ru/excurs/pic/kl13.jpg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272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76" name="Picture 6" descr="H:\музыкальные музеи\клин\housechaicovscii.jpg"/>
          <p:cNvPicPr/>
          <p:nvPr/>
        </p:nvPicPr>
        <p:blipFill>
          <a:blip r:embed="rId3"/>
          <a:stretch/>
        </p:blipFill>
        <p:spPr>
          <a:xfrm>
            <a:off x="2743200" y="3886200"/>
            <a:ext cx="3886200" cy="21826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77" name="Picture 7" descr="ch-20-2"/>
          <p:cNvPicPr/>
          <p:nvPr/>
        </p:nvPicPr>
        <p:blipFill>
          <a:blip r:embed="rId4"/>
          <a:stretch/>
        </p:blipFill>
        <p:spPr>
          <a:xfrm>
            <a:off x="685800" y="3581280"/>
            <a:ext cx="2830680" cy="19814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5e"/>
                </a:solidFill>
                <a:latin typeface="Calibri"/>
              </a:rPr>
              <a:t>Во дворе усадьбы гостей встречает сам Петр Ильич, который очень любил посидеть вот так на скамейке с книгой в руках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883600" y="533520"/>
            <a:ext cx="32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Хозяин усадь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img0.liveinternet.ru/images/attach/c/6/91/816/91816150_large_Izobrazhenie_237.jpg"/>
          <p:cNvPicPr/>
          <p:nvPr/>
        </p:nvPicPr>
        <p:blipFill>
          <a:blip r:embed="rId2"/>
          <a:stretch/>
        </p:blipFill>
        <p:spPr>
          <a:xfrm>
            <a:off x="685800" y="4114800"/>
            <a:ext cx="2641680" cy="19810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81" name="Picture 8" descr="http://gorod.tomsk.ru/uploads/61185/1302960204/3ed57be7c119.jpg"/>
          <p:cNvPicPr/>
          <p:nvPr/>
        </p:nvPicPr>
        <p:blipFill>
          <a:blip r:embed="rId3"/>
          <a:stretch/>
        </p:blipFill>
        <p:spPr>
          <a:xfrm>
            <a:off x="2971800" y="2133720"/>
            <a:ext cx="5126040" cy="375588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15174"/>
          <p:cNvPicPr/>
          <p:nvPr/>
        </p:nvPicPr>
        <p:blipFill>
          <a:blip r:embed="rId2"/>
          <a:stretch/>
        </p:blipFill>
        <p:spPr>
          <a:xfrm>
            <a:off x="3657600" y="3276720"/>
            <a:ext cx="1620720" cy="28382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a_OldTyperNr"/>
              </a:rPr>
              <a:t>Клинский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5" descr="klavir.jpg"/>
          <p:cNvPicPr/>
          <p:nvPr/>
        </p:nvPicPr>
        <p:blipFill>
          <a:blip r:embed="rId3"/>
          <a:stretch/>
        </p:blipFill>
        <p:spPr>
          <a:xfrm rot="816000">
            <a:off x="7091280" y="676080"/>
            <a:ext cx="1542960" cy="88092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Клинский период» - это почти девять лет жизни и творчества Чайковского. Это годы достижения наивысшего расцвета мастерства композитора, создания произведений, вошедших в мировую музыкальную сокровищницу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есь Чайковским были написаны оперы «Чародейка», «Черевички» и «Иоланта», инструментована «Пиковая дама», созданы балеты «Спящая красавица» и «Щелкунчик», симфонии «Манфред», Пятая и Шестая, многие романсы, камерно-инструментальные и фортепианные сочин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7" descr="afisha"/>
          <p:cNvPicPr/>
          <p:nvPr/>
        </p:nvPicPr>
        <p:blipFill>
          <a:blip r:embed="rId4"/>
          <a:stretch/>
        </p:blipFill>
        <p:spPr>
          <a:xfrm rot="21131400">
            <a:off x="1268280" y="3396960"/>
            <a:ext cx="1987560" cy="28191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  <p:pic>
        <p:nvPicPr>
          <p:cNvPr id="87" name="Picture 8" descr="C:\Documents and Settings\Admin\Мои документы\Мои рисунки\Рисунок2.jpg"/>
          <p:cNvPicPr/>
          <p:nvPr/>
        </p:nvPicPr>
        <p:blipFill>
          <a:blip r:embed="rId5"/>
          <a:stretch/>
        </p:blipFill>
        <p:spPr>
          <a:xfrm rot="614400">
            <a:off x="5709960" y="3477960"/>
            <a:ext cx="1851120" cy="267804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В доме полностью сохранена бытовая обстановка последних лет жизни композитора, его личные вещи</a:t>
            </a:r>
            <a:r>
              <a:rPr b="1" lang="en-US" sz="2000" spc="-1" strike="noStrike">
                <a:solidFill>
                  <a:srgbClr val="c4bd97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библиотека, архи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:\музыкальные музеи\клин\экспонаты музея\кабинет.jpg"/>
          <p:cNvPicPr/>
          <p:nvPr/>
        </p:nvPicPr>
        <p:blipFill>
          <a:blip r:embed="rId2"/>
          <a:stretch/>
        </p:blipFill>
        <p:spPr>
          <a:xfrm>
            <a:off x="1143000" y="2362320"/>
            <a:ext cx="5257800" cy="41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H:\музыкальные музеи\клин\экспонаты музея\кабинет-гостиная.jpg"/>
          <p:cNvPicPr/>
          <p:nvPr/>
        </p:nvPicPr>
        <p:blipFill>
          <a:blip r:embed="rId3"/>
          <a:stretch/>
        </p:blipFill>
        <p:spPr>
          <a:xfrm>
            <a:off x="2133720" y="2438280"/>
            <a:ext cx="6257880" cy="389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:\музыкальные музеи\клин\экспонаты музея\балкон-фонарик2.jpg"/>
          <p:cNvPicPr/>
          <p:nvPr/>
        </p:nvPicPr>
        <p:blipFill>
          <a:blip r:embed="rId4"/>
          <a:stretch/>
        </p:blipFill>
        <p:spPr>
          <a:xfrm>
            <a:off x="2743200" y="1600200"/>
            <a:ext cx="3581280" cy="494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H:\музыкальные музеи\клин\экспонаты музея\письменный стол.jpg"/>
          <p:cNvPicPr/>
          <p:nvPr/>
        </p:nvPicPr>
        <p:blipFill>
          <a:blip r:embed="rId5"/>
          <a:stretch/>
        </p:blipFill>
        <p:spPr>
          <a:xfrm>
            <a:off x="2590920" y="609480"/>
            <a:ext cx="3886200" cy="563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:\музыкальные музеи\клин\экспонаты музея\столовая.jpg"/>
          <p:cNvPicPr/>
          <p:nvPr/>
        </p:nvPicPr>
        <p:blipFill>
          <a:blip r:embed="rId6"/>
          <a:stretch/>
        </p:blipFill>
        <p:spPr>
          <a:xfrm>
            <a:off x="2209680" y="1828800"/>
            <a:ext cx="6259680" cy="486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H:\музыкальные музеи\клин\экспонаты музея\чернильный прибор.jpg"/>
          <p:cNvPicPr/>
          <p:nvPr/>
        </p:nvPicPr>
        <p:blipFill>
          <a:blip r:embed="rId7"/>
          <a:stretch/>
        </p:blipFill>
        <p:spPr>
          <a:xfrm>
            <a:off x="1295280" y="1676520"/>
            <a:ext cx="6885000" cy="444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:\музыкальные музеи\клин\экспонаты музея\первое выступление как дирижера 1887, ноты черевичек.jpg"/>
          <p:cNvPicPr/>
          <p:nvPr/>
        </p:nvPicPr>
        <p:blipFill>
          <a:blip r:embed="rId8"/>
          <a:stretch/>
        </p:blipFill>
        <p:spPr>
          <a:xfrm>
            <a:off x="1219320" y="685800"/>
            <a:ext cx="6288120" cy="542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:\музыкальные музеи\клин\экспонаты музея\обложка первого издания клавира.jpg"/>
          <p:cNvPicPr/>
          <p:nvPr/>
        </p:nvPicPr>
        <p:blipFill>
          <a:blip r:embed="rId9"/>
          <a:stretch/>
        </p:blipFill>
        <p:spPr>
          <a:xfrm>
            <a:off x="2057400" y="441360"/>
            <a:ext cx="4343400" cy="5715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H:\музыкальные музеи\клин\экспонаты музея\портреты родителей.jpg"/>
          <p:cNvPicPr/>
          <p:nvPr/>
        </p:nvPicPr>
        <p:blipFill>
          <a:blip r:embed="rId10"/>
          <a:stretch/>
        </p:blipFill>
        <p:spPr>
          <a:xfrm>
            <a:off x="1676520" y="1143000"/>
            <a:ext cx="5478480" cy="5381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4"/>
          <p:cNvSpPr/>
          <p:nvPr/>
        </p:nvSpPr>
        <p:spPr>
          <a:xfrm>
            <a:off x="2728440" y="533520"/>
            <a:ext cx="34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84807"/>
                </a:solidFill>
                <a:latin typeface="a_OldTyperNr"/>
              </a:rPr>
              <a:t>Экспонаты муз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4" descr="http://tchaikovsky-house-museum.ru/excurs/pic/kl24.jpg"/>
          <p:cNvPicPr/>
          <p:nvPr/>
        </p:nvPicPr>
        <p:blipFill>
          <a:blip r:embed="rId11"/>
          <a:stretch/>
        </p:blipFill>
        <p:spPr>
          <a:xfrm>
            <a:off x="1600200" y="1066680"/>
            <a:ext cx="5335560" cy="536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den-za-dnem.ru/gal/albums/userpics/2006_05_17/PI/ch-44.jpg"/>
          <p:cNvPicPr/>
          <p:nvPr/>
        </p:nvPicPr>
        <p:blipFill>
          <a:blip r:embed="rId12"/>
          <a:stretch/>
        </p:blipFill>
        <p:spPr>
          <a:xfrm>
            <a:off x="2514600" y="838080"/>
            <a:ext cx="349740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дагог</cp:lastModifiedBy>
  <dcterms:modified xsi:type="dcterms:W3CDTF">2013-10-31T15:19:04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